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BCC-7FFE-4785-B64A-BF8A90DA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643-269E-4E29-9695-1F9FDBE4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0B7-6C9B-4DBC-8CE3-D29D5A01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273-F170-48D5-A1D1-7B2353A8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C33-3D9C-4CA6-A119-31E486FE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566-E32C-42AD-8C6A-282476F2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EA0-1A97-4F41-9E63-5EE17E15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8C1-2311-4F6F-B340-D5403E2A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5B1-6124-46D9-8121-5F1A3893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8D4-B413-4DD9-837C-60E98B49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610-3522-4D66-9065-818FEA69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BC4-99F4-4FE8-9617-CA9F6BC2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fe1"/>
            </a:gs>
            <a:gs pos="100000">
              <a:srgbClr val="dd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F684-2EA2-440B-A7E0-E0792D106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Разработка кейсов оценки квалификации педагогов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120" y="2581200"/>
            <a:ext cx="89154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оффе А.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ктор педагогических нау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едующий кафедрой педагогических технологий непрерывного образования института непрерывного образования ГАОУ ВО «Московский городской педагогический университ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ологическая ос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бучение с участием» и «метод примеров» - обращены к методу Сок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обучения – привычка логического и правильного рассуждения по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к – юристы и медики, позже - Гарвардская школа бизнеса (начало ХХ века, 20-е – 60-е г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ово «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2280" y="7617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значность терми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ществитель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случай, дело, пример, ящик, чемодан, коробка, обстоятельство, факт, история болезни, доказательства, доводы, положени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дел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удебное д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го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ссматривать, паковать, присматрив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коло 50 значений слова (в зависимости от контекс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ейс – не анализ, а принятие решения (на основе альтернати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зовая схема кей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7909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228600" y="838080"/>
            <a:ext cx="4419720" cy="16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ЧАЙ (СОБЫТ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228600" y="2666880"/>
            <a:ext cx="4419720" cy="1905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Ы или ПРИМЕР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количественные и качественные иллюстрации ситу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28600" y="4952880"/>
            <a:ext cx="4419720" cy="16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ЕКСТ (рам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5410080" y="4952880"/>
            <a:ext cx="3353040" cy="16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крытых данных, меняющих ситуацию. Время, пространство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5410080" y="2971800"/>
            <a:ext cx="3353040" cy="16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ка, перечень, графики, карты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5410080" y="838080"/>
            <a:ext cx="3353040" cy="16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, основные понятия (термины, канва, завязка, сюж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аты кейсов в образо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бальный (словесный - статья, отрывок из документа, описание ситуации, эссе, набор документов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блич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граммный или гистограммный (графический объек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ический (знаки, схемы, модел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зуальный (иллюстративный - картины, карикатуры, плакаты, фото и т.п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фрагмент или мультимедийный (фильм, роли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(набор разных форматов – портфоли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альные и симулятивные кей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решение в практике (реальная ситуа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цент делается на соотнесение с успешным выбором ре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ваются по аналогии с реаль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9532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муля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уманная ситуация, не имеющая связи с образцом из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цент делается на поиске творческих идей и оригинальных ре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ваются по степени аргументирова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ценивание в повышении квалиф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ющие и результирующее оцен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вание как системный процесс, оценка как способ коммуникации, отметка как формальное обозначение рубежей в системе непрерыв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ов потенциал кейсового подхода на каждом этапе оценив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ущее оцен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межуточное оцен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оговая аттест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ГОС ВО 15 марта 2018г. по направлению 44.03.01 «Педагогическое образовани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иверсальные компетенции (наименование категории, групп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-1. Системное и критическ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-2. Разработка и реализация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-3. Командная работа и лидер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-4. Коммуник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-5. Межкультурное взаимо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-6 и УК-7. Самоорганизация и саморазвитие (в том числе здоровьесбереж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но ли определить уровень данных компетенций? Каким может быть оценочный инструментар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ГОС ВО 15 марта 2018г. по направлению 44.03.01 «Педагогическое образовани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 (наименование категории, групп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К-1. Правовые и этические основы профессиональн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К-2. Разработка основных и дополнительных образовательных програм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К-3. Совместная и индивидуальная учебная и воспитательная деятельность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К-4. Построение воспитывающей образовательной сре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К-5. Контроль и оценка формирования результатов образ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К-6. Психолого-педагогические технологии в профессиональн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К-7. Взаимодействие с участниками образовательных отно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К-8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ные основы педаг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блемные вопросы по оценке компетенций педаг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и нужно ли оценивать универсальные компетенции у педагог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вырабатывает профессиональные компетенции и как они соотносятся с общепрофессиональ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рофессиональные компетенции могут быть разработаны и приня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кстовый фрагмент как к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по работе в группах с текстовым фрагментом (общее время – 30 мин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работайте систему заданий для педагогов, чтобы использовать его в качестве кейса для оценки компетен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ы Ваши ожидания от проведения занят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ие вопросы хотите получить отв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результаты и эффекты предполагаем получ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риант использования текстового фрагмента в кейсовом формате оценки компетен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60020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нимание содержания и смысла текстового фраг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собственный заголовок данному текстовому фрагменту. Поясните данное название в 1-3-х предложениях (аргументы, обосно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 на основе содержания текстового фрагмента в графическом виде (схема или модель) тенденции, требующие трансформации современного шко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уйте любую из гипотез, связанную с современным состоянием системы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Идентификация образовательной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1920" y="16002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снове содержания текстового фрагмента сформулируйте актуальную педагогическую проблему, связанную с рассматриваемой те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заключенное в данной проблеме противореч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иведенная из текста цитата связана с одним из направлений развития современного российского образования, отраженным в нормативно-правовых документах. Назовите это направление. В каком нормативно-правовом документе (документах) это направление отраже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Понятийный аппарат и терми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определения включенных в таблицу терминов (понятий) и включите от 3-х до 5-ти понятий, которые есть в представленном текстовом фрагм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2819520"/>
          <a:ext cx="7924680" cy="3581280"/>
        </p:xfrm>
        <a:graphic>
          <a:graphicData uri="http://schemas.openxmlformats.org/drawingml/2006/table">
            <a:tbl>
              <a:tblPr/>
              <a:tblGrid>
                <a:gridCol w="3962520"/>
                <a:gridCol w="396216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ерывно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ймифик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ати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. Интерпретация информации (факты и мнен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2 факта и 2 мнения, которые Вы определили в документе. Дайте собственный комментарий, связанный с оценкой фактов и мнений. Оформите ответ в предлагаемом форм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19320" y="3425760"/>
          <a:ext cx="7086600" cy="1451160"/>
        </p:xfrm>
        <a:graphic>
          <a:graphicData uri="http://schemas.openxmlformats.org/drawingml/2006/table">
            <a:tbl>
              <a:tblPr/>
              <a:tblGrid>
                <a:gridCol w="3543120"/>
                <a:gridCol w="3543480"/>
              </a:tblGrid>
              <a:tr h="48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2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224000" y="5105520"/>
          <a:ext cx="7081920" cy="1447560"/>
        </p:xfrm>
        <a:graphic>
          <a:graphicData uri="http://schemas.openxmlformats.org/drawingml/2006/table">
            <a:tbl>
              <a:tblPr/>
              <a:tblGrid>
                <a:gridCol w="3541680"/>
                <a:gridCol w="3540240"/>
              </a:tblGrid>
              <a:tr h="482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2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24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. Вопросы к тек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9492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ьте на поставленные вопро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улируйте не менее 3-х собственных вопросов к тек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84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. Альтернативные 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280" y="6858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ите 2 альтернативных способа поддержки развития «глобальной компетентности» (global competence) в современном образов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жите собственное аргументированное мнение о предпочтительности одного из способов. Оформите ответ в предлагаемом ниже форм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3657600"/>
          <a:ext cx="8458200" cy="121932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ОИ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КИ (РИС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55680" y="5489640"/>
          <a:ext cx="8458200" cy="121896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ОИ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КИ (РИС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ая часть обучения как к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блемн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кейс отличается от ситуации? Любая ли ситуация является кей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оценивание считаем приоритетным для определения уровня компетенц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что обращаем внимание в оценивании педагог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 проекта ДОУ: Поиск ид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3" descr="https://alladvices.ru/wp-content/uploads/kak-otstirat-klubniku.jpeg"/>
          <p:cNvPicPr/>
          <p:nvPr/>
        </p:nvPicPr>
        <p:blipFill>
          <a:blip r:embed="rId1"/>
          <a:stretch/>
        </p:blipFill>
        <p:spPr>
          <a:xfrm>
            <a:off x="0" y="642960"/>
            <a:ext cx="4286160" cy="3286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http://www.medinova.gr/wp-content/uploads/2013/12/food_coloring_.jpg"/>
          <p:cNvPicPr/>
          <p:nvPr/>
        </p:nvPicPr>
        <p:blipFill>
          <a:blip r:embed="rId2"/>
          <a:stretch/>
        </p:blipFill>
        <p:spPr>
          <a:xfrm>
            <a:off x="4214880" y="642960"/>
            <a:ext cx="492912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https://ds03.infourok.ru/uploads/ex/081b/00046162-4cddfdc9/hello_html_4e482e60.jpg"/>
          <p:cNvPicPr/>
          <p:nvPr/>
        </p:nvPicPr>
        <p:blipFill>
          <a:blip r:embed="rId3"/>
          <a:stretch/>
        </p:blipFill>
        <p:spPr>
          <a:xfrm>
            <a:off x="0" y="3929040"/>
            <a:ext cx="4214880" cy="2928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http://wmuseum.ru/uploads/posts/2013-10/1382546377_detskaya-kartinnaya-galereya-samara.jpg"/>
          <p:cNvPicPr/>
          <p:nvPr/>
        </p:nvPicPr>
        <p:blipFill>
          <a:blip r:embed="rId4"/>
          <a:stretch/>
        </p:blipFill>
        <p:spPr>
          <a:xfrm>
            <a:off x="4214880" y="3929040"/>
            <a:ext cx="4929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и парадигмы использования кейсов в образо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225360" y="1139760"/>
            <a:ext cx="86994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ологические основы оценки компетенций педагог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280" y="14475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для работы в группах (20 минут)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судите и сформулируйте 3-4 базовых принципа и/или ценностные ориентиры в оценке компетенций педагога. По каждому из принципов определите конкретные их проявления (проверяемые и наблюдаемы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каждому выступлению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просы, сомнения, допол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и ценностные ориентиры оценивания педаго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280" y="12189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ашивать то, чему обучали (адекватность оценивания содержанию заняти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ть проблемные зоны и не учить тому, что всем известно (рациональное использование времен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 тактичность и педагогическая делика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ость и информ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тная связ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иция профессионального партнерства, а не контроля и ис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ое оценивание профессиональных компетен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ейсы: вопросы для обсу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кейс отличается от описания ситуации, задачи, игры, проекта? Что их объединя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амках каких образовательных технологий могут быть использованы кей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кажите своё понимание и отношение к следующей фразе: «Кейс, о котором я сейчас буду рассказыват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9-05-10T06:44:51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