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2B0-CB8F-4722-919A-1CF14806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FE8-5801-44C1-9A84-3E3B53C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040-8C5F-4521-9A1D-CE0217AA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D7A-41C7-4127-AEE5-992FC879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F45-681F-437D-8606-18F7595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669-7D48-41ED-8E2B-0653D46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0AE-AFD1-471A-B832-8D7DE39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EAF-AAE3-4EE8-BC0D-C02C5FDA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239-3732-4DB1-8647-481ACC2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06A-63C6-4C2B-9494-B6431A9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0AD-DBCA-4B7E-A5A3-01AFDB6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324-0C07-48E6-AC73-6F7AD26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8F1-64D9-48B6-BD60-5842D2E09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Разработка кейсов оценки квалификации педагогов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120" y="2581200"/>
            <a:ext cx="89154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оффе А.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тор педагогических нау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едующий кафедрой педагогических технологий непрерывного образования института непрерывного образования ГАОУ ВО «Московский городской педагогический университ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5000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урока не стоит путать с целью ученика или учителя (это цель совместной деятельности), поэтому ее можно вместе сформулировать, но не поставить перед кем-т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ностное наполнение (значим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ный образ максимально желаемого достижения (результа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сиома – утверждение, не требующее доказательств (от набора аксиом зависит позиция человека по определенному вопрос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на вопрос «Зачем? Ради чего?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уется в вид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глагольного существитель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, становление, осознание, воспитание, понимание,  самореализация, мотивация, взаимодействие, сотрудничество, расширение кругозора и т.п.) ил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аго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е-об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892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разите свое отношение к предложенной формулировке 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вержение либо подтверждение обучающимися гипотезы: «Было ли успешным социально-экономическое развитие России после отмены крепостного права» в ходе организации исследовательской деятельности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труктор формулирования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383840"/>
            <a:ext cx="8785440" cy="51404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0" y="3789360"/>
            <a:ext cx="266400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глагольное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682720" y="2355840"/>
            <a:ext cx="1903680" cy="887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Главный результат (акцент) 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682720" y="5160960"/>
            <a:ext cx="1889280" cy="887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Ценностная составляющая 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6227640" y="2298600"/>
            <a:ext cx="259236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Ценностный ориент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6227640" y="5064120"/>
            <a:ext cx="259236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сновно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4848120" y="2619360"/>
            <a:ext cx="1143000" cy="36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829040" y="5424480"/>
            <a:ext cx="1141560" cy="36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3633840" y="1738440"/>
            <a:ext cx="3673440" cy="36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вязка-вспомогательн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Выноска: стрелка влево-вправо 11"/>
          <p:cNvSpPr/>
          <p:nvPr/>
        </p:nvSpPr>
        <p:spPr>
          <a:xfrm rot="5400000">
            <a:off x="2682720" y="3243240"/>
            <a:ext cx="1889280" cy="1889280"/>
          </a:xfrm>
          <a:custGeom>
            <a:avLst/>
            <a:gdLst>
              <a:gd name="textAreaLeft" fmla="*/ 747360 w 1889280"/>
              <a:gd name="textAreaRight" fmla="*/ 1141920 w 1889280"/>
              <a:gd name="textAreaTop" fmla="*/ 0 h 1889280"/>
              <a:gd name="textAreaBottom" fmla="*/ 1889640 h 1889280"/>
            </a:gdLst>
            <a:ahLst/>
            <a:rect l="textAreaLeft" t="textAreaTop" r="textAreaRight" b="textAreaBottom"/>
            <a:pathLst>
              <a:path w="21600" h="21600">
                <a:moveTo>
                  <a:pt x="8546" y="0"/>
                </a:moveTo>
                <a:lnTo>
                  <a:pt x="13054" y="0"/>
                </a:lnTo>
                <a:lnTo>
                  <a:pt x="13054" y="8100"/>
                </a:lnTo>
                <a:lnTo>
                  <a:pt x="17592" y="8100"/>
                </a:lnTo>
                <a:lnTo>
                  <a:pt x="17592" y="5500"/>
                </a:lnTo>
                <a:lnTo>
                  <a:pt x="21600" y="10800"/>
                </a:lnTo>
                <a:lnTo>
                  <a:pt x="17592" y="16100"/>
                </a:lnTo>
                <a:lnTo>
                  <a:pt x="17592" y="13500"/>
                </a:lnTo>
                <a:lnTo>
                  <a:pt x="13054" y="13500"/>
                </a:lnTo>
                <a:lnTo>
                  <a:pt x="13054" y="21600"/>
                </a:lnTo>
                <a:lnTo>
                  <a:pt x="8546" y="21600"/>
                </a:lnTo>
                <a:lnTo>
                  <a:pt x="8546" y="13500"/>
                </a:lnTo>
                <a:lnTo>
                  <a:pt x="4008" y="13500"/>
                </a:lnTo>
                <a:lnTo>
                  <a:pt x="4008" y="16100"/>
                </a:lnTo>
                <a:lnTo>
                  <a:pt x="0" y="10800"/>
                </a:lnTo>
                <a:lnTo>
                  <a:pt x="4008" y="5500"/>
                </a:lnTo>
                <a:lnTo>
                  <a:pt x="4008" y="8100"/>
                </a:lnTo>
                <a:lnTo>
                  <a:pt x="8546" y="81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ы формулирования ц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6426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кольниками причинно-следственных связей при изучении вопросов…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риант – Понимание смысла  реформ Петра Вели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ащимися опыта логического мышления при решении задач…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риант – Выработка логики при решении квадратны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остоятельности учащихся при работе с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важения к историческому прошлому страны на пример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чевой культуры школьников через… (использование деепричастий, неопределённой формы глагол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мися важности или роли …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ческой культуры, грамматики и т.п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следовательских умений учащихся на основе химического 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3045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в образ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2920" y="1066320"/>
            <a:ext cx="8858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 процесс (имеют технологичный и инструментальный харак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комплексный характер (включают направление из ряда конкретных зад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ют на вопрос: «ЧТО С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уются через глаголы (объяснить, получить информацию, обобщить, узнать, сравнить, сопоставить, обсудить, оценить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 пошаговое движение к реализации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задачи имеет конкретный результат (служит проверкой успешности выполнения задач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поставлены извне или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25560"/>
            <a:ext cx="885672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ы формулирования задач для учителя и обучающихся (уроч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12500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ь причины начала реформ Петра Великого (высказать мнение о причинах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ь особенности решения задач с квадратными уравнениями (узнать об особенностях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самостоятельный поиск учащихся информации о природных зонах Африки (самостоятельно получить информацию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сравнение различных речевых оборотов с точки зрения языковой грамотности (сравнить речевые обороты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навыки оценивания собственной работы на уроке (оценить результаты своей рабо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рефлексивный подход при обсуждении занятия (высказать свою позицию об уро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8567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определения задач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762120"/>
            <a:ext cx="8856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проведение исследования обуча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дить формат описания результатов 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ить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работу учащихся по выдвижению гипо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результаты работы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анализ информации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развитию умений обучающихся в формулировании аргументов и контрарг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монстрировать алгоритм выстраивания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интересовать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ить проблему и проверить ее понимание обуч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рефлекс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уемые (прогнозируемые, ожидаемые результаты занят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ретизация целей и показатель успешности выполнения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ют количественные и качественны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проверяем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уются в следующей стилистике: «В результате работы участники смогут…» (давать определение понятиям, называть не менее 4-х характеристик явления, сделать выбор, сформировать отношение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иметь личностный, предметный или метапредметны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тся в ходе совместного обсуждения в начале работы (возвращение к ним по окончании работы в ходе рефлексивного анали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ы формулирования ожидаем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071360"/>
            <a:ext cx="91440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результате проведения занятия учащиеся смогу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ать определение понятиям (формулироват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ть не менее 4-х характеристик я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ь не менее 3-х примеров по теме (событию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не менее 3-х причин событ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аргументы или контраргументы по вопрос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не менее 3-х вопросов разных видов по те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(изобразить), сделать схему, заполнить сравнительную таблиц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ь на примерах (показывать, объяснит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оизводить информац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позицию или высказать собственное м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выбор, сформировать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хема результативност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5286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2643120" y="1428840"/>
            <a:ext cx="364356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642960" y="3143160"/>
            <a:ext cx="3571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4786200" y="3143160"/>
            <a:ext cx="371484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ос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357120" y="5000760"/>
            <a:ext cx="192888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00200" y="5000760"/>
            <a:ext cx="21481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о (мастер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4786200" y="5000760"/>
            <a:ext cx="178596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7072200" y="5000760"/>
            <a:ext cx="185760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4"/>
          <p:cNvCxnSpPr>
            <a:stCxn id="98" idx="2"/>
          </p:cNvCxnSpPr>
          <p:nvPr/>
        </p:nvCxnSpPr>
        <p:spPr>
          <a:xfrm flipH="1">
            <a:off x="2285640" y="2428920"/>
            <a:ext cx="2178720" cy="71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6" name="Прямая со стрелкой 16"/>
          <p:cNvCxnSpPr>
            <a:stCxn id="98" idx="2"/>
            <a:endCxn id="100" idx="0"/>
          </p:cNvCxnSpPr>
          <p:nvPr/>
        </p:nvCxnSpPr>
        <p:spPr>
          <a:xfrm>
            <a:off x="4462920" y="2428920"/>
            <a:ext cx="2180520" cy="71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>
            <a:stCxn id="99" idx="2"/>
            <a:endCxn id="101" idx="0"/>
          </p:cNvCxnSpPr>
          <p:nvPr/>
        </p:nvCxnSpPr>
        <p:spPr>
          <a:xfrm flipH="1">
            <a:off x="1320480" y="4071960"/>
            <a:ext cx="110880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>
            <a:stCxn id="99" idx="2"/>
            <a:endCxn id="102" idx="0"/>
          </p:cNvCxnSpPr>
          <p:nvPr/>
        </p:nvCxnSpPr>
        <p:spPr>
          <a:xfrm>
            <a:off x="2428920" y="4071960"/>
            <a:ext cx="114696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9" name="Прямая со стрелкой 22"/>
          <p:cNvCxnSpPr>
            <a:stCxn id="100" idx="2"/>
            <a:endCxn id="103" idx="0"/>
          </p:cNvCxnSpPr>
          <p:nvPr/>
        </p:nvCxnSpPr>
        <p:spPr>
          <a:xfrm flipH="1">
            <a:off x="5679360" y="4071960"/>
            <a:ext cx="96444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0" name="Прямая со стрелкой 24"/>
          <p:cNvCxnSpPr>
            <a:stCxn id="100" idx="2"/>
            <a:endCxn id="104" idx="0"/>
          </p:cNvCxnSpPr>
          <p:nvPr/>
        </p:nvCxnSpPr>
        <p:spPr>
          <a:xfrm>
            <a:off x="6643800" y="4071960"/>
            <a:ext cx="135792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ановка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609120"/>
            <a:ext cx="86421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можно сформулировать проблемы для обсу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вете ни единому у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вшему учительскую пры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 не удалось открыть 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сам не собирался их откр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морали – глупая мор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лучшая, чем дуть на обла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бе смешна бессмысленность ур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афос твой смешит ученик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 Губер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поху бурных перем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ылу скандальных д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выясни «заче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сле «что» и «ка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. Парам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291600"/>
            <a:ext cx="87156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пени результативности учебного процесса (таксономия Бл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3840" y="142848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Зн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вать определение, называть, перечислять, вспомин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ним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относить, обобщать, выделять ключевую мысль, переформулировать, выраж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терпретировать, иллюстрировать, письменно выражать мысль, создавать тексты, предлагать реш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Анали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лассифицировать, упорядочивать сравнивать, доказывать, дифференциров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Обобщ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думывать, развив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Оцени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ценить, критиковать, выносить суж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аимосвязи в целеполагании (форм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12500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занятия: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1989000"/>
          <a:ext cx="8839440" cy="460872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1152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2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ить использовать доказательства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ют идеи, гипотезы, приводят аргументы и контраргументы, проводят проверку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0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ствовать развитию исследовательских навыков при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тезисов, отделение главного от второстепенного, анализ информации, обобщение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52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ать обсуждение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е решение (выводы), занятая позиция, примеры, соблюдение правил, формулирование вопрос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ча о строителях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ответы были связаны с миссией, целью, задачей и ожидаемым результа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4" descr="http://im4-tub-ru.yandex.net/i?id=290722364-24-72&amp;n=21"/>
          <p:cNvPicPr/>
          <p:nvPr/>
        </p:nvPicPr>
        <p:blipFill>
          <a:blip r:embed="rId1"/>
          <a:stretch/>
        </p:blipFill>
        <p:spPr>
          <a:xfrm>
            <a:off x="3619440" y="3147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http://im2-tub-ru.yandex.net/i?id=221378767-06-72&amp;n=21"/>
          <p:cNvPicPr/>
          <p:nvPr/>
        </p:nvPicPr>
        <p:blipFill>
          <a:blip r:embed="rId2"/>
          <a:stretch/>
        </p:blipFill>
        <p:spPr>
          <a:xfrm>
            <a:off x="7162920" y="1676520"/>
            <a:ext cx="161604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http://im3-tub-ru.yandex.net/i?id=49826949-22-72&amp;n=21"/>
          <p:cNvPicPr/>
          <p:nvPr/>
        </p:nvPicPr>
        <p:blipFill>
          <a:blip r:embed="rId3"/>
          <a:stretch/>
        </p:blipFill>
        <p:spPr>
          <a:xfrm>
            <a:off x="609480" y="16002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http://im4-tub-ru.yandex.net/i?id=91196445-56-72&amp;n=21"/>
          <p:cNvPicPr/>
          <p:nvPr/>
        </p:nvPicPr>
        <p:blipFill>
          <a:blip r:embed="rId4"/>
          <a:stretch/>
        </p:blipFill>
        <p:spPr>
          <a:xfrm>
            <a:off x="457200" y="5029200"/>
            <a:ext cx="19065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http://im7-tub-ru.yandex.net/i?id=502507799-38-72&amp;n=21"/>
          <p:cNvPicPr/>
          <p:nvPr/>
        </p:nvPicPr>
        <p:blipFill>
          <a:blip r:embed="rId5"/>
          <a:stretch/>
        </p:blipFill>
        <p:spPr>
          <a:xfrm>
            <a:off x="6781680" y="4952880"/>
            <a:ext cx="1791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ышение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715600" cy="614376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3"/>
          <p:cNvSpPr/>
          <p:nvPr/>
        </p:nvSpPr>
        <p:spPr>
          <a:xfrm>
            <a:off x="3143160" y="3357720"/>
            <a:ext cx="2714760" cy="928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214200" y="71424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руктивная кри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ормальное отношение к ошибк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3071880" y="457200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ивление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арадоксы, провокации, пробл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071880" y="185724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н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6000840" y="571500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м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рония, шутки, смешные истор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214200" y="571500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онально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ключенность чувственной сф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214200" y="328608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пора на образы, иллюст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6000840" y="321480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сть прави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еткая организация, инструкции, понят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1"/>
          <p:cNvSpPr/>
          <p:nvPr/>
        </p:nvSpPr>
        <p:spPr>
          <a:xfrm>
            <a:off x="6000840" y="714240"/>
            <a:ext cx="292896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желательная атмосфе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ажение и призн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тивационный компле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"/>
          <p:cNvPicPr/>
          <p:nvPr/>
        </p:nvPicPr>
        <p:blipFill>
          <a:blip r:embed="rId1"/>
          <a:stretch/>
        </p:blipFill>
        <p:spPr>
          <a:xfrm>
            <a:off x="195120" y="701640"/>
            <a:ext cx="87537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 видите? По какой теме может быть проведено заня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Объект 3" descr="http://artsportal.ru/content/picture/image/685.jpg"/>
          <p:cNvPicPr/>
          <p:nvPr/>
        </p:nvPicPr>
        <p:blipFill>
          <a:blip r:embed="rId1"/>
          <a:stretch/>
        </p:blipFill>
        <p:spPr>
          <a:xfrm>
            <a:off x="642960" y="1857240"/>
            <a:ext cx="8001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а М. Эшера «Предел – круг 4 (ад и рай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714240"/>
            <a:ext cx="3857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овы основные идеи данного рису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стины в данном рисунке из книг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 Зимбардо «Эффект Люцифер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ир наполнен и добром, и з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аницы между добром и злом проницаемы и расплывч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«Ангелы» могут стать «демонами»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http://artsportal.ru/content/picture/image/685.jpg"/>
          <p:cNvPicPr/>
          <p:nvPr/>
        </p:nvPicPr>
        <p:blipFill>
          <a:blip r:embed="rId1"/>
          <a:stretch/>
        </p:blipFill>
        <p:spPr>
          <a:xfrm>
            <a:off x="3929040" y="785880"/>
            <a:ext cx="5000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ая школа (математика – окружающий ми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F:\Задание 4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заимосвязь живой и неживой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357200"/>
            <a:ext cx="8229600" cy="51436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928880" y="1285920"/>
            <a:ext cx="521496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ЖИВАЯ 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1785960" y="3929040"/>
            <a:ext cx="521496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В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571680" y="2500200"/>
            <a:ext cx="17143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6"/>
          <p:cNvSpPr/>
          <p:nvPr/>
        </p:nvSpPr>
        <p:spPr>
          <a:xfrm>
            <a:off x="2571840" y="2500200"/>
            <a:ext cx="17143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7"/>
          <p:cNvSpPr/>
          <p:nvPr/>
        </p:nvSpPr>
        <p:spPr>
          <a:xfrm>
            <a:off x="4643280" y="250020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8"/>
          <p:cNvSpPr/>
          <p:nvPr/>
        </p:nvSpPr>
        <p:spPr>
          <a:xfrm>
            <a:off x="6786720" y="2500200"/>
            <a:ext cx="1714320" cy="785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9"/>
          <p:cNvSpPr/>
          <p:nvPr/>
        </p:nvSpPr>
        <p:spPr>
          <a:xfrm>
            <a:off x="6786720" y="5643720"/>
            <a:ext cx="171432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0"/>
          <p:cNvSpPr/>
          <p:nvPr/>
        </p:nvSpPr>
        <p:spPr>
          <a:xfrm>
            <a:off x="4643280" y="5643720"/>
            <a:ext cx="171468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1"/>
          <p:cNvSpPr/>
          <p:nvPr/>
        </p:nvSpPr>
        <p:spPr>
          <a:xfrm>
            <a:off x="2643120" y="5643720"/>
            <a:ext cx="178596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2"/>
          <p:cNvSpPr/>
          <p:nvPr/>
        </p:nvSpPr>
        <p:spPr>
          <a:xfrm>
            <a:off x="428760" y="5643720"/>
            <a:ext cx="2000160" cy="78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4"/>
          <p:cNvSpPr/>
          <p:nvPr/>
        </p:nvSpPr>
        <p:spPr>
          <a:xfrm flipH="1">
            <a:off x="1428840" y="2071800"/>
            <a:ext cx="310680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6"/>
          <p:cNvSpPr/>
          <p:nvPr/>
        </p:nvSpPr>
        <p:spPr>
          <a:xfrm flipH="1">
            <a:off x="3429000" y="2071800"/>
            <a:ext cx="110664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>
            <a:off x="4534920" y="2071800"/>
            <a:ext cx="96516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4535640" y="2071800"/>
            <a:ext cx="310824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22"/>
          <p:cNvCxnSpPr>
            <a:stCxn id="146" idx="2"/>
          </p:cNvCxnSpPr>
          <p:nvPr/>
        </p:nvCxnSpPr>
        <p:spPr>
          <a:xfrm>
            <a:off x="1428840" y="3286080"/>
            <a:ext cx="1286640" cy="57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9" name="Прямая со стрелкой 24"/>
          <p:cNvCxnSpPr>
            <a:stCxn id="147" idx="2"/>
          </p:cNvCxnSpPr>
          <p:nvPr/>
        </p:nvCxnSpPr>
        <p:spPr>
          <a:xfrm>
            <a:off x="3427920" y="3286080"/>
            <a:ext cx="214920" cy="57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0" name="Прямая со стрелкой 26"/>
          <p:cNvCxnSpPr>
            <a:stCxn id="148" idx="2"/>
          </p:cNvCxnSpPr>
          <p:nvPr/>
        </p:nvCxnSpPr>
        <p:spPr>
          <a:xfrm flipH="1">
            <a:off x="4500360" y="3286080"/>
            <a:ext cx="1000800" cy="57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1" name="Прямая со стрелкой 28"/>
          <p:cNvCxnSpPr>
            <a:stCxn id="149" idx="2"/>
          </p:cNvCxnSpPr>
          <p:nvPr/>
        </p:nvCxnSpPr>
        <p:spPr>
          <a:xfrm flipH="1">
            <a:off x="6071760" y="3286080"/>
            <a:ext cx="1572480" cy="57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2" name="Прямая со стрелкой 30"/>
          <p:cNvCxnSpPr>
            <a:stCxn id="153" idx="0"/>
          </p:cNvCxnSpPr>
          <p:nvPr/>
        </p:nvCxnSpPr>
        <p:spPr>
          <a:xfrm flipV="1">
            <a:off x="1428840" y="4785840"/>
            <a:ext cx="1357920" cy="858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3" name="Прямая со стрелкой 32"/>
          <p:cNvCxnSpPr>
            <a:stCxn id="152" idx="0"/>
          </p:cNvCxnSpPr>
          <p:nvPr/>
        </p:nvCxnSpPr>
        <p:spPr>
          <a:xfrm flipV="1">
            <a:off x="3534120" y="4714560"/>
            <a:ext cx="60876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4" name="Прямая со стрелкой 34"/>
          <p:cNvCxnSpPr>
            <a:stCxn id="151" idx="0"/>
          </p:cNvCxnSpPr>
          <p:nvPr/>
        </p:nvCxnSpPr>
        <p:spPr>
          <a:xfrm flipH="1" flipV="1">
            <a:off x="4857840" y="4785840"/>
            <a:ext cx="643320" cy="858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65" name="Прямая со стрелкой 36"/>
          <p:cNvCxnSpPr>
            <a:stCxn id="150" idx="0"/>
          </p:cNvCxnSpPr>
          <p:nvPr/>
        </p:nvCxnSpPr>
        <p:spPr>
          <a:xfrm flipH="1" flipV="1">
            <a:off x="6357600" y="4714560"/>
            <a:ext cx="128664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зывание с пропусками-визуальными образами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4200" y="999720"/>
            <a:ext cx="8715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сть два __________, которыми можно двигать людей, — ___________  и личный          ___________»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олеон Бонапар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4" descr="http://archives.colta.ru/wp-content/uploads/2013/03/zahod.jpg"/>
          <p:cNvPicPr/>
          <p:nvPr/>
        </p:nvPicPr>
        <p:blipFill>
          <a:blip r:embed="rId1"/>
          <a:stretch/>
        </p:blipFill>
        <p:spPr>
          <a:xfrm>
            <a:off x="2928960" y="3071880"/>
            <a:ext cx="3287520" cy="3786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https://get.wallhere.com/photo/child-boy-ball-planet-imitation-clouds-1101143.jpg"/>
          <p:cNvPicPr/>
          <p:nvPr/>
        </p:nvPicPr>
        <p:blipFill>
          <a:blip r:embed="rId2"/>
          <a:stretch/>
        </p:blipFill>
        <p:spPr>
          <a:xfrm>
            <a:off x="6215040" y="3071880"/>
            <a:ext cx="2928960" cy="37861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http://odealnn.webfactional.com/media/upload/470px-Prostiye_mechanizmy_2.jpg"/>
          <p:cNvPicPr/>
          <p:nvPr/>
        </p:nvPicPr>
        <p:blipFill>
          <a:blip r:embed="rId3"/>
          <a:stretch/>
        </p:blipFill>
        <p:spPr>
          <a:xfrm>
            <a:off x="0" y="3071880"/>
            <a:ext cx="3000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6760" y="1285560"/>
            <a:ext cx="85726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универсальные элементы, которые присутствуют в любом занятии, независимо от учебного предмета или места урока в системе препода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4876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казывание с пропусками-визуальными образами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4200" y="10000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инное __________ состоит не столько в ___________, сколько в ____________»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. Русс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3" descr="http://ladysnews.ru/wp-content/uploads/1083.2-1024x643.jpg"/>
          <p:cNvPicPr/>
          <p:nvPr/>
        </p:nvPicPr>
        <p:blipFill>
          <a:blip r:embed="rId1"/>
          <a:stretch/>
        </p:blipFill>
        <p:spPr>
          <a:xfrm>
            <a:off x="3143160" y="2857680"/>
            <a:ext cx="3143520" cy="4000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http://skachate.ru/pars_docs/refs/150/149287/149287_html_m450895a7.jpg"/>
          <p:cNvPicPr/>
          <p:nvPr/>
        </p:nvPicPr>
        <p:blipFill>
          <a:blip r:embed="rId2"/>
          <a:stretch/>
        </p:blipFill>
        <p:spPr>
          <a:xfrm>
            <a:off x="0" y="2857680"/>
            <a:ext cx="3143160" cy="40003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http://poradnik.com.ua/images/Fizicheskie_uprazhneniya_dlya_pohudeniya_v_domashnih_usloviyah_3.jpg"/>
          <p:cNvPicPr/>
          <p:nvPr/>
        </p:nvPicPr>
        <p:blipFill>
          <a:blip r:embed="rId3"/>
          <a:stretch/>
        </p:blipFill>
        <p:spPr>
          <a:xfrm>
            <a:off x="6286680" y="2857680"/>
            <a:ext cx="2857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сть два рычага, которыми можно двигать людей, — страх и личный интерес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олеон Бонап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инное воспитание состоит не столько в правилах, сколько в упражнениях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ан-Жак Ру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тановка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сли бы человек действительно решился преобразовать себя под давлением созданных собственными руками технологий, если бы он признал своим преемником робота с совершенным кристаллическим мозгом, то это было б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самым большим безумием»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. Лем «Сумма технологии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еловек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4114800" y="762120"/>
            <a:ext cx="502920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работать в коман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0" y="5029200"/>
            <a:ext cx="4114800" cy="18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ативность и постоян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4114800" y="5029200"/>
            <a:ext cx="5029200" cy="18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ция и констру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0" y="762120"/>
            <a:ext cx="411480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Содержимое 8" descr="http://eskom-nw.ru/wp-content/uploads/2017/04/14561234133413-%D0%BA%D0%BE%D0%BF%D0%B8%D1%8F-%D0%BA%D0%BE%D0%BF%D0%B8%D1%8F-1024x940.jpg"/>
          <p:cNvPicPr/>
          <p:nvPr/>
        </p:nvPicPr>
        <p:blipFill>
          <a:blip r:embed="rId1"/>
          <a:stretch/>
        </p:blipFill>
        <p:spPr>
          <a:xfrm>
            <a:off x="4114800" y="3429000"/>
            <a:ext cx="5029200" cy="160020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http://bishelp.ru/sites/default/files/imagecache/article-big/users/83050/content/Fotolia_53755759_Subscription_Monthly_M.jpg"/>
          <p:cNvPicPr/>
          <p:nvPr/>
        </p:nvPicPr>
        <p:blipFill>
          <a:blip r:embed="rId2"/>
          <a:stretch/>
        </p:blipFill>
        <p:spPr>
          <a:xfrm>
            <a:off x="4114800" y="1828800"/>
            <a:ext cx="5029200" cy="16002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0" descr="https://lifeinaalborg.files.wordpress.com/2014/10/dreamstimelarge_32590363.jpg"/>
          <p:cNvPicPr/>
          <p:nvPr/>
        </p:nvPicPr>
        <p:blipFill>
          <a:blip r:embed="rId3"/>
          <a:stretch/>
        </p:blipFill>
        <p:spPr>
          <a:xfrm>
            <a:off x="0" y="1905120"/>
            <a:ext cx="419112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1" descr="https://img3.stockfresh.com/files/n/nasirkhan/m/22/1691310_stock-photo-3d-man-puzzle-bulbs.jpg"/>
          <p:cNvPicPr/>
          <p:nvPr/>
        </p:nvPicPr>
        <p:blipFill>
          <a:blip r:embed="rId4"/>
          <a:stretch/>
        </p:blipFill>
        <p:spPr>
          <a:xfrm>
            <a:off x="0" y="3505320"/>
            <a:ext cx="4191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ССИВНАЯ СТРАТЕГ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линейное воздейств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85800" y="2209680"/>
            <a:ext cx="81532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42920" y="1571760"/>
          <a:ext cx="871524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571760"/>
                    <a:ext cx="871524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ИВНАЯ СТРАТЕГ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линейное взаимодейств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8134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8"/>
          <p:cNvGraphicFramePr/>
          <p:nvPr/>
        </p:nvGraphicFramePr>
        <p:xfrm>
          <a:off x="0" y="1676520"/>
          <a:ext cx="9144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АКТИВНАЯ СТРАТЕГ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круговое взаимодейств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26370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357120" y="1214280"/>
          <a:ext cx="8358120" cy="56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214280"/>
                    <a:ext cx="835812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380520"/>
            <a:ext cx="342900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-утвер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37720"/>
            <a:ext cx="335772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еобходимо что-то сделать, то Вам не следует звонить в последнюю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Вы всегда меня перебив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не уважаете меня. Вы никогда не помните о моём дне р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0" y="380520"/>
            <a:ext cx="457200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-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428640" y="762120"/>
            <a:ext cx="5715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" indent="-7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 звоните в последнюю минуту и просите составить план, я не всегда могу быть свободным. Я готов помочь, но буду признателен, если меня предупредят чуть 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 пытаетесь сказать, не дослушав меня, я не смогу уделить внимание тому, что сказано. Я был бы благодарен услышать замечания после своих слов, если ситуация не требует говорить с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 забываете о моём дне рождения, мне кажется, что Я вам безразличен. Мне хочется думать, что это не т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и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785880"/>
          <a:ext cx="8929800" cy="6072120"/>
        </p:xfrm>
        <a:graphic>
          <a:graphicData uri="http://schemas.openxmlformats.org/drawingml/2006/table">
            <a:tbl>
              <a:tblPr/>
              <a:tblGrid>
                <a:gridCol w="3193920"/>
                <a:gridCol w="2759040"/>
                <a:gridCol w="297684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ые (репродуктив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(систем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е (состав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на вопрос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услов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пек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ламац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роизведение иллюстра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на группу вопрос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и по услов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и тезис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ритм, схема, таблиц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иллюстраци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ование вопро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решения, выбор пу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, эссе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, проек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иллюстра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010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вопр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"/>
          <p:cNvPicPr/>
          <p:nvPr/>
        </p:nvPicPr>
        <p:blipFill>
          <a:blip r:embed="rId1"/>
          <a:stretch/>
        </p:blipFill>
        <p:spPr>
          <a:xfrm>
            <a:off x="176040" y="768240"/>
            <a:ext cx="88455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ы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122400" y="768240"/>
            <a:ext cx="882648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ы и образователь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456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560" indent="-70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метная направленност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ем (чем) произошло событие (взаимодействие)? За что? Какие данные? Из каких элементов состоит? Что означает? Какой элеме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-70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предметная направленност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алгоритм решения задачи? Какое название Вы могли бы дать тексту? Каким образом можно изменить структуру информации? Каков план? С какой целью проводился эксперимент (исследование)? Какие задачи ставили перед собой? Можно ли было найти другое решение? Какие результаты были достигнуты? Какие выводы можно сделать? Какие примеры подтвержд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-70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ая направленнос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гласны ли Вы с позицией автора? Зачем была сделана работа? Каково Ваше отношение к личности? Что было важным? Какие ценности лежат в основе? Что нового я узнал на занятии? Каким образом можно использовать полученные знания? Каких правил должен придерживаться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сновная задача учреждений образования – быть ____________ (1), в которых вырастают великие ________ (2): их нельзя «произвести» на _________ (3)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– тепл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–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– конвейе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Содержимое 3" descr="Фото Позитифф."/>
          <p:cNvPicPr/>
          <p:nvPr/>
        </p:nvPicPr>
        <p:blipFill>
          <a:blip r:embed="rId1"/>
          <a:stretch/>
        </p:blipFill>
        <p:spPr>
          <a:xfrm>
            <a:off x="0" y="-2895480"/>
            <a:ext cx="9144000" cy="90676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304920" y="6324480"/>
            <a:ext cx="8610480" cy="38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ы видите? Дайте собственное название сюже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прет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3" descr="Фото Позитифф.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 оцен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Объект 1" descr=""/>
          <p:cNvPicPr/>
          <p:nvPr/>
        </p:nvPicPr>
        <p:blipFill>
          <a:blip r:embed="rId1"/>
          <a:stretch/>
        </p:blipFill>
        <p:spPr>
          <a:xfrm>
            <a:off x="225360" y="669960"/>
            <a:ext cx="869940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сихологические аспекты оцен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цеб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зитивное внушение (Гален «Лучше всего исцеляет тот, кому больше всего доверяют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цеб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гативное вну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идания в образовании влияют на оценки и отметки, а также на поведение и действия самих учеников (вера в талантливость повышает баллы и мотивирует учеников, негативное отношение к способностям вызывает обратный эффек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14760" y="214200"/>
            <a:ext cx="59292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ФЛЕКСИВНЫЙ БЛ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0" y="928800"/>
            <a:ext cx="577188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произошедш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ение тру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воение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0" y="14292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0" y="235728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4357800" y="4357800"/>
            <a:ext cx="4643280" cy="250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4"/>
          <a:stretch/>
        </p:blipFill>
        <p:spPr>
          <a:xfrm>
            <a:off x="0" y="4357800"/>
            <a:ext cx="43578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дошка (вариант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3" descr="https://ds02.infourok.ru/uploads/ex/07d3/0006be92-3004e8d7/img12.jp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ем Вы себя чувству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Содержимое 3" descr="https://jo-jo.ru/uploads/posts/2016-08/1472240971_tree-test-2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ЧНО-МОДУЛЬНЫЙ КОНСТРУКТОР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1643040"/>
            <a:ext cx="2571840" cy="521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изацио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643800" y="1643040"/>
            <a:ext cx="2500200" cy="521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тив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438280" y="1643040"/>
            <a:ext cx="2276640" cy="250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форм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43280" y="4143240"/>
            <a:ext cx="2214720" cy="271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714920" y="1643040"/>
            <a:ext cx="2143080" cy="250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438280" y="4143240"/>
            <a:ext cx="2286000" cy="271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це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ЧНАЯ СТРУКТУРА ЗАНЯТИЯ (линейная мод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480" y="1143000"/>
            <a:ext cx="8643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одная часть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рганизацион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отивацион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ая часть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Информацион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налитический (практический)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ительная часть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ценоч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Рефлексив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я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действий (алгоритм) и инструктирование (формат инструкц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ность (определенные ритуалы, повторяющиеся действия, взаимосвязь разных элементов в общей схем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ерархия (целей, задач, действий – от важного к второстепенному, понимание степени цен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о и время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зуальный дизайн и сопровождение занятия (ресурсы, материалы, источники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ние (цели, задачи, планируемые - прогнозируемые результа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плекс целеполагания в рамках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8428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"/>
          <p:cNvSpPr/>
          <p:nvPr/>
        </p:nvSpPr>
        <p:spPr>
          <a:xfrm>
            <a:off x="1187280" y="1413000"/>
            <a:ext cx="3910320" cy="3349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6"/>
          <p:cNvSpPr/>
          <p:nvPr/>
        </p:nvSpPr>
        <p:spPr>
          <a:xfrm>
            <a:off x="4427640" y="1341360"/>
            <a:ext cx="3909960" cy="3348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7"/>
          <p:cNvSpPr/>
          <p:nvPr/>
        </p:nvSpPr>
        <p:spPr>
          <a:xfrm>
            <a:off x="2627280" y="3508200"/>
            <a:ext cx="3909960" cy="3349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сказывания для об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авлю цели перед учащимися в начале урока» (педаго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ы выполнили задачу воспитания духовно-нравственной личн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чащиеся получили задание познакомиться с личностью (понятием, законом, теоремой, страной, климатической зоной, произведением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9-05-10T07:05:4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